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59D-1C86-44AB-BE86-1D2B3C46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503-6347-4C22-AA13-DDD85F61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666-4FB1-44E3-A303-BED3A944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9D6-EAD3-407C-9699-B95668CE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FCB8-A4DF-4BB1-BC6D-3CF7184C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058E-8FCA-4E8D-A553-7C5FD59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659C-9DA2-4541-897F-CA4AF24E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8D37-3159-41B4-B0A6-8E5397B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24CA-688B-462E-AB6F-2D302059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AB2C-D8ED-4409-833E-787CD704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4DC6-8C5D-4E79-9DC9-758641F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081-7D26-4364-A6CF-2A7B276E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585E-CB91-449D-8ED1-856245E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1FEB-518D-4BFB-B481-296DA905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235B-EB84-4A47-9D4C-14B47A45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3CC8-FC5D-42E8-A46F-ABF7C7A6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3098-CF50-4400-BCA4-BF02E1CC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8748-8161-4B54-B627-9A6136A0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0FF6-3270-4495-B7B9-3A44D08C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B8E1-2D96-443A-BFD7-CA12B58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701C-81E3-4ADD-9A09-CB4DEBD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045F-4A1F-499F-AEF5-6FC78E71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598-74CD-4343-A53A-F68452E8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E17E-053B-48B0-B6C3-500D66AA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CE20-24B1-4708-999A-EA31909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17FD-36A5-4010-99C5-3A0EB8C0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01EC-A9F9-43FA-9E79-EA50B7E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DB47-2824-4215-AC56-944AB06D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B68A-6D2D-41B9-8FBC-B66E06F5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2F6C-3ED0-40DB-8BDB-A1D6A1E8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4CA0-9B3B-4BEC-99CF-66E5BAD8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EEC6-58D6-4E9E-BA4B-D92833CA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19B5-A0BB-49A9-89D5-D7F0E238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72E-3257-4D43-A0D0-6D985E32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40F5A-6A40-43AE-A3CF-F6273BE5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3EDE7-9D3F-4D12-8B14-2695861C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C8E12-979C-4B39-920D-08C95BB6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4C1D-B653-4133-B3B8-676EC22D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651F-4283-44CA-A817-495C1A4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1944-78C3-47A1-83C1-579DA8CB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D60E-B0FD-4CF0-AEEC-6DFE9EE8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8C219-8A44-4A31-9C16-8B35D297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3CD8-A78D-4035-B75B-71610700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B07-95EE-400C-88B3-1C630E7D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5A6-07F3-4A33-9275-A9DF0B25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745-843C-45A4-9BD9-913C1736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E30-CF32-400D-BE18-24583364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E90-DB7E-4914-9B5A-7C68221E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5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1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E871C-C2DE-4849-A4D5-33A65B5B029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04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47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51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49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A6198-8AB7-460C-9FCD-88F618C596F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07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94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3075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6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6BC37-99C4-4467-9260-2C4DD52376B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09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4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Group 4099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51F33-5CE9-4B35-AC59-95C226DAA51A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How Many </a:t>
            </a:r>
            <a:r>
              <a:rPr b="0" lang="en-GB" sz="5400" spc="-1" strike="noStrike">
                <a:solidFill>
                  <a:srgbClr val="404040"/>
                </a:solidFill>
                <a:latin typeface="Calisto MT"/>
                <a:ea typeface="SimSun"/>
              </a:rPr>
              <a:t>.....</a:t>
            </a: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 are There?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040" y="344808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sto MT"/>
                <a:ea typeface="SimSun"/>
              </a:rPr>
              <a:t>Show the picture for ten seconds then they can write or shout out the guess. Go back and count af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5" name="Content Placeholder 15362" descr=""/>
          <p:cNvPicPr/>
          <p:nvPr/>
        </p:nvPicPr>
        <p:blipFill>
          <a:blip r:embed="rId1"/>
          <a:stretch/>
        </p:blipFill>
        <p:spPr>
          <a:xfrm>
            <a:off x="1581120" y="2011320"/>
            <a:ext cx="5337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zebra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 zebra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9" name="Content Placeholder 17410" descr=""/>
          <p:cNvPicPr/>
          <p:nvPr/>
        </p:nvPicPr>
        <p:blipFill>
          <a:blip r:embed="rId1"/>
          <a:stretch/>
        </p:blipFill>
        <p:spPr>
          <a:xfrm>
            <a:off x="2890800" y="1838160"/>
            <a:ext cx="312408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fr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fr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13" name="Content Placeholder 19458" descr=""/>
          <p:cNvPicPr/>
          <p:nvPr/>
        </p:nvPicPr>
        <p:blipFill>
          <a:blip r:embed="rId1"/>
          <a:stretch/>
        </p:blipFill>
        <p:spPr>
          <a:xfrm>
            <a:off x="1890720" y="2090880"/>
            <a:ext cx="53420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hors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hor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mi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mouse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87520" y="1417680"/>
            <a:ext cx="70167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870200" y="1417680"/>
            <a:ext cx="549576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893960" y="1417680"/>
            <a:ext cx="5151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809720" y="1417680"/>
            <a:ext cx="5175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89" name="Content Placeholder 7170" descr=""/>
          <p:cNvPicPr/>
          <p:nvPr/>
        </p:nvPicPr>
        <p:blipFill>
          <a:blip r:embed="rId1"/>
          <a:stretch/>
        </p:blipFill>
        <p:spPr>
          <a:xfrm>
            <a:off x="1450800" y="1805040"/>
            <a:ext cx="6237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905120" y="1417680"/>
            <a:ext cx="5327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217520" y="1673280"/>
            <a:ext cx="60022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736560" y="1417680"/>
            <a:ext cx="7831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tiger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tig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3" name="Content Placeholder 9218" descr=""/>
          <p:cNvPicPr/>
          <p:nvPr/>
        </p:nvPicPr>
        <p:blipFill>
          <a:blip r:embed="rId1"/>
          <a:stretch/>
        </p:blipFill>
        <p:spPr>
          <a:xfrm>
            <a:off x="1450800" y="1790640"/>
            <a:ext cx="59104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d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d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7" name="Content Placeholder 11266" descr=""/>
          <p:cNvPicPr/>
          <p:nvPr/>
        </p:nvPicPr>
        <p:blipFill>
          <a:blip r:embed="rId1"/>
          <a:stretch/>
        </p:blipFill>
        <p:spPr>
          <a:xfrm>
            <a:off x="1790640" y="1854360"/>
            <a:ext cx="58546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elephan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elephan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1" name="Content Placeholder 13314" descr=""/>
          <p:cNvPicPr/>
          <p:nvPr/>
        </p:nvPicPr>
        <p:blipFill>
          <a:blip r:embed="rId1"/>
          <a:stretch/>
        </p:blipFill>
        <p:spPr>
          <a:xfrm>
            <a:off x="1521000" y="1979640"/>
            <a:ext cx="5746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r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r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c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 c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6:39:48Z</dcterms:created>
  <dc:creator>Clark Kopelman</dc:creator>
  <dc:description/>
  <dc:language>en-US</dc:language>
  <cp:lastModifiedBy>firea</cp:lastModifiedBy>
  <dcterms:modified xsi:type="dcterms:W3CDTF">2018-12-12T05:20:45Z</dcterms:modified>
  <cp:revision>5</cp:revision>
  <dc:subject/>
  <dc:title>Fruits and Veget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7587</vt:lpwstr>
  </property>
</Properties>
</file>